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B25-D8F9-4F8E-BCA6-A037F541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2633-4687-41FA-8F35-510B45BE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024D-2CC5-493A-94FC-835E927B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823-F45B-4D88-AE76-5E1C85C2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BFB-3158-4BD6-A027-0FDCD531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A3B1-17CD-43C2-B731-1B67CD55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B73D-C55B-46DB-897B-61E9CC53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393C-D7E3-4D87-91CD-7CDF1F21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5C70-1566-4E48-BFC2-B1CB4EA4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1B8-D9F1-49BF-9E86-0B705EFE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2B14-77C8-4EBE-9EAA-3A587915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5401-30E1-4249-9ED7-6F9188F0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CEDB-7BB6-4D2C-B82F-B368932C1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920" y="609480"/>
            <a:ext cx="87562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мазочни и охлаждащи матери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исквания към експлоатационните свойства на смазочните матери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ареене и регенериране на масла. Подобряване на качествата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аслата с помощта на присадки. Механизъм на смазв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мазочно-охлаждащи течности. Състав и предна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върдост на водата и нейното отстраняване. Антифр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B50-DCEC-4483-89E5-2E0E588C7F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7080" y="152280"/>
            <a:ext cx="49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мазочно-охлаждащи системи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1440" y="849240"/>
            <a:ext cx="34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ъстав и предназначение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0520" y="1484280"/>
            <a:ext cx="816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редназначени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- при процесите на рязане и пластична деформация </a:t>
            </a: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насят се в зоната на контакта между обработвания метал и инструмента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2600" y="2322360"/>
            <a:ext cx="789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Състав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композиции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минерални, синтетични или естествени мас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ода, електролит, повърхностноактивни вещества, присадки и др.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0600" y="3160800"/>
            <a:ext cx="880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Смазващо действие </a:t>
            </a: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зависи от противоизносните и противозадирни свойства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включените в състава им ма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4640" y="4191120"/>
            <a:ext cx="77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Охлаждащо действи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отнемане на топлината при процес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обработка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конвективен топлообмен при обмиване на металн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върхност и изнасянето на тази топлина извън системата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947-1CDE-4218-A33F-B4670FEA15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6000" y="152280"/>
            <a:ext cx="53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мазочно-охлаждащи системи (2)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0000" y="773280"/>
            <a:ext cx="55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Видове смазочно-охлаждащите материали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3800" y="1407960"/>
            <a:ext cx="80748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одни разтвори –вода и електролити (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натриев полифосфа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) - пасивират металната повърхност, ПАВ, водоразтвор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лимери и др.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високи охлаждащи, но ниски смазочни характеристики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4160" y="2475000"/>
            <a:ext cx="831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мулсии –диспергирани минерални масла във водна среда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съчетав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сновните, изискващи се от смазочно-охлаждащите матери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ксплоатационни качества – смазочно и охлаждащо действ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ползват при почти всички операции на механичната обработка.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6320" y="3846600"/>
            <a:ext cx="83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одно-маслени емулсии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чрез механично диспергиране на растителн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животински мазнини във вода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валцуване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1360" y="4684680"/>
            <a:ext cx="3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1360" y="4608360"/>
            <a:ext cx="841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легирани минерални масла –прибавяне към маслата на присадки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чрез активирането им при взаимодействие със сяра при висока темп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граничено при тежки режими на триене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5520" y="5599080"/>
            <a:ext cx="837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ластични и твърди смазки –при обработка на металите с малка скоро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изтегляне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нямат охлаждащо действие и трудно проникват в зонат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еформация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EF3-C640-46F3-86E9-18A685D10D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6720" y="15228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Охлаждащи сист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6120" y="69696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080" y="1179360"/>
            <a:ext cx="883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риложени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най-масово използван охлаждащ агент в технологичните проце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едимства - широко разпространение в природата  и ценни физикохимич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достатъци - относително висока температура на замръзване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увеличаване на обема с 10%, ниска работна температура (до около 90 °С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лно корозионно действие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образува котлен камък в съоръжени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440" y="3389400"/>
            <a:ext cx="9074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Твърдост на водата</a:t>
            </a:r>
            <a:r>
              <a:rPr b="0" lang="fi-FI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съдържание на всички катиони във водата, които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исшите мастни киселини дават утайки - йони на калция и магнезия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 нагряване –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котлен камък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- голяма твърдост и ниска топлопровод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лошава условията на работа на метала - аварии поради  прегря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растване на хидравличното съпротивление на тръбопроводите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маляване на свободното се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двигателите с вътрешно горене - образуването на котлен камък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диаторите води до прегряване на двигателя, намаляване на мощността му и др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3CE4-E06D-4009-8B88-390C08B49A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6000" y="15228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Охлаждащи системи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5040" y="696960"/>
            <a:ext cx="11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2840" y="2590920"/>
            <a:ext cx="84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Методи за пречистван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- механични, биологични, химични и физикохимични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7800" y="1143000"/>
            <a:ext cx="825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мекотяван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- процес на намаляване или пълно отстраняване на йонит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ито предизвикват твърдостта на вод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безсоляван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(дейонизиране) - отделяне на всички соли от вод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6920" y="3236760"/>
            <a:ext cx="887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рмично омекотяване - само в неголеми котли и при подготовката на вод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отоплителни мрежи или снабдяване с топла вода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при нагряване на вод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икарбонатите на калция и магнезия се разпадат - трудноразтворими карбон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Химично омекотяване - свързване на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в трудноразтвор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алциеви и магнезиеви съединения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не може напълно да се отстра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върдостта на водата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следва пречистване по йоннообменен пъ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5A1-5020-430F-85A2-CA7719D64B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6000" y="15228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Охлаждащи системи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040" y="696960"/>
            <a:ext cx="829152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Антифриз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одни разтвори на органични или неорганични съедин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й-разпространени - водни разтвори на двувалентни или тривалент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лкохоли – имат по-ниска температура на замръзване от Н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6720" y="2093760"/>
            <a:ext cx="84452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В практикат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- водни разтвори на двувалентния алкохол етиленглик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аслообразна, безцветна или светложълта течност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тносителна плътност 1.11, температура на кипене 197 °С и температур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мръзване -11.5 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" y="3693960"/>
            <a:ext cx="90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Недостатъц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- съдържащите етиленгликол антифризи са агресивни в корозио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тношение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внасят се инхибитори на корози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F0A-D580-4AE8-A5D3-061C5BFB55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51120" y="192240"/>
            <a:ext cx="25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ъ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360" y="798480"/>
            <a:ext cx="87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редназначение на смазочните и смазочно-охлаждащите материал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маляват триенето на повърхностите на движещите се метални и други части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0200" y="1712880"/>
            <a:ext cx="78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малява се износването и се предотвратява възможното задиря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3000" y="2475000"/>
            <a:ext cx="72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маляват енергийните загуби и се увеличава коефициент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лезно действие на машините и съоръженията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7320" y="3313080"/>
            <a:ext cx="76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твеждат топлина и охлаждат зоната на триене, с което осигуряв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обходимите температурни реж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400" y="42274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едпазват в известна степен от корозия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56DA-D070-4B5A-A236-58C3C26E12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113760" y="457200"/>
            <a:ext cx="260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ласиф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80" y="3352680"/>
            <a:ext cx="906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Според произ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стествени смазочни материали – растителни и животински мазни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инерални масла от нефтен произ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нтетични масла – синтезирани от различни суровини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й-масово използв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762120"/>
            <a:ext cx="855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Според предназначени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торни масла –в двигателите с вътрешно горене – 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карбураторни</a:t>
            </a: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 дизелови</a:t>
            </a: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 авиационни и др.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газотурбинни </a:t>
            </a: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използват се в газови, водни и парни турб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рансмисионни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смазване на различни видове емисии </a:t>
            </a: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високи противоизносни и противозадирни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лектроизолационни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електротехник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асла за различни други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1120" y="4876920"/>
            <a:ext cx="385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Според агрегатното състояние</a:t>
            </a:r>
            <a:r>
              <a:rPr b="0" lang="fi-FI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чни (мас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ластич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вър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газообра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240" y="3960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мазочни матери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D873-D583-4648-B485-6BBA483C57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44640" y="457200"/>
            <a:ext cx="63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исквания към експлоатационните свойств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560" y="990720"/>
            <a:ext cx="69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Вискозитет и вискозитетно-температурни свойства на маслата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4840" y="1600200"/>
            <a:ext cx="76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вискозитет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физикохимичен показател за окачествяване на масл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520" y="2057400"/>
            <a:ext cx="807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а осигури  течно триене (хидродинамичен режим на триене) меж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риещите се повъ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характеризира вътрешното триене, възникващо между молекулит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еществата, които текат при преместване под действие на външни сили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6840" y="3425760"/>
            <a:ext cx="57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в практикат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кинематичен вискозитет </a:t>
            </a:r>
            <a:r>
              <a:rPr b="0" lang="el-GR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m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2880" y="4038480"/>
            <a:ext cx="7415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с повишаване на температурата вискозитетът намалява и обратно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8000" y="4800600"/>
            <a:ext cx="8565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одобряване на вискозитетно-температурните характеристик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легир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насят се вискозитетни (сгъстяващи) присадки (линейни полимер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четават добри пускови и антифрикционни свойства, характерни 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исковискозните масла при ниски температури и добрите смазващи св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високовискозните масла при висока температура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6000" y="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мазочни материали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471E-9E7F-45D7-9879-5EF1092FF2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95920" y="457200"/>
            <a:ext cx="732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Противоизносни и противозадирни свойства на маслата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6000" y="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мазочни материали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9680" y="1219320"/>
            <a:ext cx="85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ротивоизносни и противозадирни свойств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фикасно да предпазват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носване триещите се повърхности при средни натоварвания и от задир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 високи натоварвания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маслото се задържа здраво върху металн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върхност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0240" y="2666880"/>
            <a:ext cx="84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Присадки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- кислородни, азотни и други производни на въглеводородите  съ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силно полярни функционални груп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160" y="3886200"/>
            <a:ext cx="48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дсорбират върху металната повърх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1360" y="4572000"/>
            <a:ext cx="84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заимодействат химично с металната повърхност - образуват по-здрав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устойчиви гранични филми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C88-24A1-4341-856A-9186846FB7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6000" y="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мазочни материали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2160" y="468360"/>
            <a:ext cx="327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табилност на масл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6200" y="1103400"/>
            <a:ext cx="872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Стабилност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свойството на смазочните материали да изменят във въз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й-ниска степен своите физични и химични характеристики под влияни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ншни въздействия в процеса на експлоатация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920" y="2398680"/>
            <a:ext cx="83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рмоокислителна стабилност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в контакт с въздуха и под действието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вишени температури влошават своите първоначални качества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Добре пречистени масла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4120" y="3962520"/>
            <a:ext cx="854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кисляване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ускорява се многократно при повишаване на температурат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контакт с металната повърхност, която действа каталитично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Антиокислителни присадки, които имат инхибиращо дей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(напр. цинков алкилдитиофосфат)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5C65-4C8D-4E86-A478-8F43E6853C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6000" y="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мазочни материали (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8800" y="468360"/>
            <a:ext cx="42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иещи и диспергиращи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560" y="13716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Миещи и диспергиращи свойства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задържат във финодисперсно състоя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разуващите се в тях неразтворими продукти на окисление, саждите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горелите газове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" y="3048120"/>
            <a:ext cx="837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одобряване свойствата на маслата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 добавяне на присадк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държане на частиците в диспергирано състояние – молекулите им 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дсорбират и възпрепятстват тяхното агрегиране и утая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разуват мицели, като включват в състава си неразтворимите частици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3726-8BBE-4DC6-A086-4B0B2FAD74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6000" y="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мазочни материали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7840" y="544680"/>
            <a:ext cx="64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Антикорозионни и защитни свойства на маслата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6120" y="990720"/>
            <a:ext cx="87620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Защитни характеристики</a:t>
            </a:r>
            <a:r>
              <a:rPr b="0" lang="fi-FI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способността на маслата да възпрепятств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розията на смазаните метални повърхности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ачества на маслата в зависимост от средата в която работ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химичен състав на средата– съдържание на серни съединения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лементна сяра, сероводород и меркаптани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контакт с изгорелите газове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инаги се съдържат серни и азотни окс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картера на двигателя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попада вода - образува се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ярна и азотна кисели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протича корозия от електрохимичен тип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т възможността да образуват или задържат корозионно-активни съ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760" y="4648320"/>
            <a:ext cx="8079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Антикорозионни прис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заимодействат с метала, като образуват защитни филми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дсорбират върху металната повърхност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лътен ориентир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хидрофобен слой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държат т.нар. алкален резерв на маслата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неутрализират кисел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дукти в мас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5B39-4361-4CD8-95E1-DB7C435C6A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6000" y="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мазочни материали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9160" y="2438280"/>
            <a:ext cx="58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рок за подменяне на маслата. Регенериране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6080" y="3276720"/>
            <a:ext cx="858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Оптималния срок за подменян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- достигане на т.нар. браковъчни стойности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злични за всеки вид масло и за различните условия на експлоатация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920" y="4343400"/>
            <a:ext cx="793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Регенериране на маслат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- процес на възстановяване на качестват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аслата с цел повторното им използ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7240" y="965160"/>
            <a:ext cx="8922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Противопенни свойства на маслат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образуването на пяна в маслата 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зпрепятства, като в тях се добавят противопенни присадки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намаляв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устойчивостта на пяната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ликони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0.001 – 0.1%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3D14-CEA2-442D-801E-759FDB14FF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5:31:10Z</dcterms:created>
  <dc:creator>Iva Betova</dc:creator>
  <dc:description/>
  <dc:language>en-US</dc:language>
  <cp:lastModifiedBy>Iva Betova</cp:lastModifiedBy>
  <dcterms:modified xsi:type="dcterms:W3CDTF">2007-12-05T07:53:22Z</dcterms:modified>
  <cp:revision>31</cp:revision>
  <dc:subject/>
  <dc:title>Slide 1</dc:title>
</cp:coreProperties>
</file>